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0C9-C5D8-4374-9300-FE436147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87C-3948-4AD7-B271-658FF7F2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C49-67FB-44AE-93BD-6EE3A3BF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FD4-21AC-4DCE-B045-781E2A10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E06-1B43-4D86-AADD-F8340E0D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948-3CF5-4FAD-8FB6-3C8BEEC7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B7C-66E5-4011-A672-1960D902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318-3FBF-4CC8-9D3F-13256FA9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9AB-D9E9-4A08-9B95-EAAA27B2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437-A650-46D5-A55C-8487148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AB3-8903-452C-8F7E-FAF26A2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7F5-3F56-470D-80D2-2C57E17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9DD6C-EC16-41F4-850C-DBF7A0C6A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Calibri Light"/>
              </a:rPr>
              <a:t>Africa Hazards Brief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22 June 2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Miliaritiana Robj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miliaritiana.robjhon@noaa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8993160" y="0"/>
            <a:ext cx="31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792760" y="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8993160" y="3429000"/>
            <a:ext cx="31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5792760" y="3429000"/>
            <a:ext cx="3200400" cy="333360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2"/>
          <p:cNvCxnSpPr/>
          <p:nvPr/>
        </p:nvCxnSpPr>
        <p:spPr>
          <a:xfrm flipH="1">
            <a:off x="3736080" y="166680"/>
            <a:ext cx="2894760" cy="2132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Straight Arrow Connector 16"/>
          <p:cNvCxnSpPr/>
          <p:nvPr/>
        </p:nvCxnSpPr>
        <p:spPr>
          <a:xfrm flipH="1">
            <a:off x="4912560" y="107640"/>
            <a:ext cx="5072760" cy="2834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Straight Arrow Connector 17"/>
          <p:cNvCxnSpPr/>
          <p:nvPr/>
        </p:nvCxnSpPr>
        <p:spPr>
          <a:xfrm flipH="1">
            <a:off x="3792240" y="3522240"/>
            <a:ext cx="28389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Straight Arrow Connector 18"/>
          <p:cNvCxnSpPr/>
          <p:nvPr/>
        </p:nvCxnSpPr>
        <p:spPr>
          <a:xfrm flipH="1">
            <a:off x="3410640" y="3581280"/>
            <a:ext cx="6409800" cy="673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534000" y="704880"/>
          <a:ext cx="10515600" cy="365040"/>
        </p:xfrm>
        <a:graphic>
          <a:graphicData uri="http://schemas.openxmlformats.org/drawingml/2006/table">
            <a:tbl>
              <a:tblPr/>
              <a:tblGrid>
                <a:gridCol w="1051560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3"/>
          <p:cNvSpPr/>
          <p:nvPr/>
        </p:nvSpPr>
        <p:spPr>
          <a:xfrm>
            <a:off x="5904000" y="735120"/>
            <a:ext cx="581940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1680" bIns="31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  <a:ea typeface="Arial"/>
              </a:rPr>
              <a:t>Desert Locust situation update 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21 June 20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095880" y="1154160"/>
            <a:ext cx="5695920" cy="4054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0" y="138276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 </a:t>
            </a:r>
            <a:r>
              <a:rPr b="1" lang="en-US" sz="1800" spc="-1" strike="noStrike">
                <a:solidFill>
                  <a:srgbClr val="660000"/>
                </a:solidFill>
                <a:latin typeface="Verdana"/>
              </a:rPr>
              <a:t>SOMAL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Aerial and ground operations are making good progress against numerous hopper bands on the coast, escarpment, and plateau in the northwest (Somaliland); consequently, only a few small immature swarms have formed so far. Control operations continue against smaller hopper band infestations in the northeast (Puntland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 </a:t>
            </a:r>
            <a:r>
              <a:rPr b="1" lang="en-US" sz="1800" spc="-1" strike="noStrike">
                <a:solidFill>
                  <a:srgbClr val="660000"/>
                </a:solidFill>
                <a:latin typeface="Verdana"/>
              </a:rPr>
              <a:t>ETHIOP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Hopper bands continue to develop in eastern Bale zone of Oromia region and the railway area near Ayasha in western Somali region; no infestations seen by aerial surveys in eastern Somali reg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0DC56-50DC-430C-9E05-2361FEFE5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Map&#10;&#10;Description automatically generated"/>
          <p:cNvPicPr/>
          <p:nvPr/>
        </p:nvPicPr>
        <p:blipFill>
          <a:blip r:embed="rId1"/>
          <a:stretch/>
        </p:blipFill>
        <p:spPr>
          <a:xfrm>
            <a:off x="838080" y="0"/>
            <a:ext cx="52992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ap&#10;&#10;Description automatically generated"/>
          <p:cNvPicPr/>
          <p:nvPr/>
        </p:nvPicPr>
        <p:blipFill>
          <a:blip r:embed="rId2"/>
          <a:stretch/>
        </p:blipFill>
        <p:spPr>
          <a:xfrm>
            <a:off x="658980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3446640" y="905040"/>
            <a:ext cx="5298840" cy="5952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4307760" y="38088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frica Hazards Outl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ttps://www.cpc.ncep.noaa.gov/products/international/africa_rfe/africa_rfe_7day_wa_obs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ttps://www.cpc.ncep.noaa.gov/products/international/africa_rfe/africa_rfe_7day_wa_anom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095880" y="549360"/>
            <a:ext cx="6096240" cy="594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54936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Straight Arrow Connector 3"/>
          <p:cNvCxnSpPr/>
          <p:nvPr/>
        </p:nvCxnSpPr>
        <p:spPr>
          <a:xfrm flipH="1">
            <a:off x="2265120" y="77760"/>
            <a:ext cx="5536080" cy="5238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598320"/>
            <a:ext cx="5478480" cy="523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8834400" y="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5478480" y="0"/>
            <a:ext cx="335592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8834400" y="3571920"/>
            <a:ext cx="335772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5"/>
          <a:stretch/>
        </p:blipFill>
        <p:spPr>
          <a:xfrm>
            <a:off x="5478480" y="3571920"/>
            <a:ext cx="3355920" cy="328608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2"/>
          <p:cNvCxnSpPr/>
          <p:nvPr/>
        </p:nvCxnSpPr>
        <p:spPr>
          <a:xfrm flipH="1">
            <a:off x="3308040" y="190080"/>
            <a:ext cx="3069360" cy="435852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6" name="Straight Arrow Connector 19"/>
          <p:cNvCxnSpPr/>
          <p:nvPr/>
        </p:nvCxnSpPr>
        <p:spPr>
          <a:xfrm flipH="1">
            <a:off x="2074680" y="77400"/>
            <a:ext cx="7660080" cy="459828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7" name="Straight Arrow Connector 22"/>
          <p:cNvCxnSpPr/>
          <p:nvPr/>
        </p:nvCxnSpPr>
        <p:spPr>
          <a:xfrm flipH="1">
            <a:off x="2917440" y="3665160"/>
            <a:ext cx="6672960" cy="68508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8" name="Straight Arrow Connector 25"/>
          <p:cNvCxnSpPr/>
          <p:nvPr/>
        </p:nvCxnSpPr>
        <p:spPr>
          <a:xfrm flipH="1">
            <a:off x="1622160" y="3665160"/>
            <a:ext cx="4636080" cy="111312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01920" y="217440"/>
            <a:ext cx="5362560" cy="650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frica, VHI of current year"/>
          <p:cNvPicPr/>
          <p:nvPr/>
        </p:nvPicPr>
        <p:blipFill>
          <a:blip r:embed="rId2"/>
          <a:stretch/>
        </p:blipFill>
        <p:spPr>
          <a:xfrm>
            <a:off x="3330720" y="217440"/>
            <a:ext cx="533376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549360"/>
            <a:ext cx="6126120" cy="5943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6066000" y="549360"/>
            <a:ext cx="6126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s://www.cpc.ncep.noaa.gov/products/international/africa_rfe/africa_rfe_7day_ea_obs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https://www.cpc.ncep.noaa.gov/products/international/africa_rfe/africa_rfe_7day_ea_anom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3T13:48:04Z</dcterms:created>
  <dc:creator>Steven Fuhrman</dc:creator>
  <dc:description/>
  <dc:language>en-US</dc:language>
  <cp:lastModifiedBy>Admin</cp:lastModifiedBy>
  <dcterms:modified xsi:type="dcterms:W3CDTF">2021-06-22T15:58:18Z</dcterms:modified>
  <cp:revision>315</cp:revision>
  <dc:subject/>
  <dc:title>Africa Hazards Briefing</dc:title>
</cp:coreProperties>
</file>