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9EDF-5EE8-4B5B-9435-28C89A18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624B-3F4B-43C2-A782-DFF6BF94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62E6-983E-4330-B510-0EE64B00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B86A-F599-46AA-856C-86E74F9F1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BC7D-D697-4C90-B276-4BA310F8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5528-7DCA-4F30-B8EC-34B0959E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18C1-7801-4169-8C03-E334757F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E3D9-80BA-47B3-BB05-D2792555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1EE1-F862-437A-B6E6-E224FFF1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202-B87F-4A6B-A236-1727A41D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2BB6-CBC8-4D73-9B95-91D9BB2A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A1F8-B5C7-4989-AFCE-868B7B23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4DD092-821A-49C5-86BC-E6AD78C01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0c0"/>
                </a:solidFill>
                <a:latin typeface="Calibri Light"/>
              </a:rPr>
              <a:t>Africa Hazards Briefing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22 June 20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Miliaritiana Robjh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miliaritiana.robjhon@noaa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8993160" y="0"/>
            <a:ext cx="3198960" cy="3429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5792760" y="0"/>
            <a:ext cx="3200400" cy="3429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4"/>
          <a:stretch/>
        </p:blipFill>
        <p:spPr>
          <a:xfrm>
            <a:off x="8993160" y="3429000"/>
            <a:ext cx="3198960" cy="3429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5"/>
          <a:stretch/>
        </p:blipFill>
        <p:spPr>
          <a:xfrm>
            <a:off x="5792760" y="3429000"/>
            <a:ext cx="3200400" cy="3333600"/>
          </a:xfrm>
          <a:prstGeom prst="rect">
            <a:avLst/>
          </a:prstGeom>
          <a:ln w="0">
            <a:noFill/>
          </a:ln>
        </p:spPr>
      </p:pic>
      <p:cxnSp>
        <p:nvCxnSpPr>
          <p:cNvPr id="74" name="Straight Arrow Connector 2"/>
          <p:cNvCxnSpPr/>
          <p:nvPr/>
        </p:nvCxnSpPr>
        <p:spPr>
          <a:xfrm flipH="1">
            <a:off x="3736080" y="166680"/>
            <a:ext cx="2894760" cy="21322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Straight Arrow Connector 16"/>
          <p:cNvCxnSpPr/>
          <p:nvPr/>
        </p:nvCxnSpPr>
        <p:spPr>
          <a:xfrm flipH="1">
            <a:off x="4912560" y="107640"/>
            <a:ext cx="5072760" cy="28342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Straight Arrow Connector 17"/>
          <p:cNvCxnSpPr/>
          <p:nvPr/>
        </p:nvCxnSpPr>
        <p:spPr>
          <a:xfrm flipH="1">
            <a:off x="3792240" y="3522240"/>
            <a:ext cx="283896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Straight Arrow Connector 18"/>
          <p:cNvCxnSpPr/>
          <p:nvPr/>
        </p:nvCxnSpPr>
        <p:spPr>
          <a:xfrm flipH="1">
            <a:off x="3410640" y="3581280"/>
            <a:ext cx="6409800" cy="673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534000" y="704880"/>
          <a:ext cx="10515600" cy="365040"/>
        </p:xfrm>
        <a:graphic>
          <a:graphicData uri="http://schemas.openxmlformats.org/drawingml/2006/table">
            <a:tbl>
              <a:tblPr/>
              <a:tblGrid>
                <a:gridCol w="10515600"/>
              </a:tblGrid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Rectangle 3"/>
          <p:cNvSpPr/>
          <p:nvPr/>
        </p:nvSpPr>
        <p:spPr>
          <a:xfrm>
            <a:off x="5904000" y="735120"/>
            <a:ext cx="5819400" cy="67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1680" bIns="31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  <a:ea typeface="Arial"/>
              </a:rPr>
              <a:t>Desert Locust situation update </a:t>
            </a: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21 June 20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095880" y="1154160"/>
            <a:ext cx="5695920" cy="40543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0" y="1382760"/>
            <a:ext cx="6095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 </a:t>
            </a:r>
            <a:r>
              <a:rPr b="1" lang="en-US" sz="1800" spc="-1" strike="noStrike">
                <a:solidFill>
                  <a:srgbClr val="660000"/>
                </a:solidFill>
                <a:latin typeface="Verdana"/>
              </a:rPr>
              <a:t>SOMALI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Aerial and ground operations are making good progress against numerous hopper bands on the coast, escarpment, and plateau in the northwest (Somaliland); consequently, only a few small immature swarms have formed so far. Control operations continue against smaller hopper band infestations in the northeast (Puntland)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 </a:t>
            </a:r>
            <a:r>
              <a:rPr b="1" lang="en-US" sz="1800" spc="-1" strike="noStrike">
                <a:solidFill>
                  <a:srgbClr val="660000"/>
                </a:solidFill>
                <a:latin typeface="Verdana"/>
              </a:rPr>
              <a:t>ETHIOPI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Hopper bands continue to develop in eastern Bale zone of Oromia region and the railway area near Ayasha in western Somali region; no infestations seen by aerial surveys in eastern Somali reg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85BD42-5F55-49F5-8107-9CDAF6C030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Map&#10;&#10;Description automatically generated"/>
          <p:cNvPicPr/>
          <p:nvPr/>
        </p:nvPicPr>
        <p:blipFill>
          <a:blip r:embed="rId1"/>
          <a:stretch/>
        </p:blipFill>
        <p:spPr>
          <a:xfrm>
            <a:off x="838080" y="0"/>
            <a:ext cx="52992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Map&#10;&#10;Description automatically generated"/>
          <p:cNvPicPr/>
          <p:nvPr/>
        </p:nvPicPr>
        <p:blipFill>
          <a:blip r:embed="rId2"/>
          <a:stretch/>
        </p:blipFill>
        <p:spPr>
          <a:xfrm>
            <a:off x="6589800" y="0"/>
            <a:ext cx="529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3446640" y="905040"/>
            <a:ext cx="5298840" cy="595296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4307760" y="380880"/>
            <a:ext cx="35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frica Hazards Outlo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https://www.cpc.ncep.noaa.gov/products/international/africa_rfe/africa_rfe_7day_wa_obs.gif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53341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https://www.cpc.ncep.noaa.gov/products/international/africa_rfe/africa_rfe_7day_wa_anom.gif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53341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095880" y="549360"/>
            <a:ext cx="6096240" cy="5943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0" y="549360"/>
            <a:ext cx="6095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Straight Arrow Connector 3"/>
          <p:cNvCxnSpPr/>
          <p:nvPr/>
        </p:nvCxnSpPr>
        <p:spPr>
          <a:xfrm flipH="1">
            <a:off x="2265120" y="77760"/>
            <a:ext cx="5536080" cy="5238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598320"/>
            <a:ext cx="5478480" cy="5237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8834400" y="0"/>
            <a:ext cx="3357720" cy="357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3"/>
          <a:stretch/>
        </p:blipFill>
        <p:spPr>
          <a:xfrm>
            <a:off x="5478480" y="0"/>
            <a:ext cx="335592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"/>
          <p:cNvPicPr/>
          <p:nvPr/>
        </p:nvPicPr>
        <p:blipFill>
          <a:blip r:embed="rId4"/>
          <a:stretch/>
        </p:blipFill>
        <p:spPr>
          <a:xfrm>
            <a:off x="8834400" y="3571920"/>
            <a:ext cx="3357720" cy="328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"/>
          <p:cNvPicPr/>
          <p:nvPr/>
        </p:nvPicPr>
        <p:blipFill>
          <a:blip r:embed="rId5"/>
          <a:stretch/>
        </p:blipFill>
        <p:spPr>
          <a:xfrm>
            <a:off x="5478480" y="3571920"/>
            <a:ext cx="3355920" cy="3286080"/>
          </a:xfrm>
          <a:prstGeom prst="rect">
            <a:avLst/>
          </a:prstGeom>
          <a:ln w="0">
            <a:noFill/>
          </a:ln>
        </p:spPr>
      </p:pic>
      <p:cxnSp>
        <p:nvCxnSpPr>
          <p:cNvPr id="55" name="Straight Arrow Connector 2"/>
          <p:cNvCxnSpPr/>
          <p:nvPr/>
        </p:nvCxnSpPr>
        <p:spPr>
          <a:xfrm flipH="1">
            <a:off x="3308040" y="190080"/>
            <a:ext cx="3069360" cy="4358520"/>
          </a:xfrm>
          <a:prstGeom prst="straightConnector1">
            <a:avLst/>
          </a:prstGeom>
          <a:ln w="76320">
            <a:solidFill>
              <a:srgbClr val="1c1c1c"/>
            </a:solidFill>
            <a:miter/>
            <a:tailEnd len="med" type="triangle" w="med"/>
          </a:ln>
        </p:spPr>
      </p:cxnSp>
      <p:cxnSp>
        <p:nvCxnSpPr>
          <p:cNvPr id="56" name="Straight Arrow Connector 19"/>
          <p:cNvCxnSpPr/>
          <p:nvPr/>
        </p:nvCxnSpPr>
        <p:spPr>
          <a:xfrm flipH="1">
            <a:off x="2074680" y="77400"/>
            <a:ext cx="7660080" cy="4598280"/>
          </a:xfrm>
          <a:prstGeom prst="straightConnector1">
            <a:avLst/>
          </a:prstGeom>
          <a:ln w="76320">
            <a:solidFill>
              <a:srgbClr val="1c1c1c"/>
            </a:solidFill>
            <a:miter/>
            <a:tailEnd len="med" type="triangle" w="med"/>
          </a:ln>
        </p:spPr>
      </p:cxnSp>
      <p:cxnSp>
        <p:nvCxnSpPr>
          <p:cNvPr id="57" name="Straight Arrow Connector 22"/>
          <p:cNvCxnSpPr/>
          <p:nvPr/>
        </p:nvCxnSpPr>
        <p:spPr>
          <a:xfrm flipH="1">
            <a:off x="2917440" y="3665160"/>
            <a:ext cx="6672960" cy="685080"/>
          </a:xfrm>
          <a:prstGeom prst="straightConnector1">
            <a:avLst/>
          </a:prstGeom>
          <a:ln w="76320">
            <a:solidFill>
              <a:srgbClr val="1c1c1c"/>
            </a:solidFill>
            <a:miter/>
            <a:tailEnd len="med" type="triangle" w="med"/>
          </a:ln>
        </p:spPr>
      </p:cxnSp>
      <p:cxnSp>
        <p:nvCxnSpPr>
          <p:cNvPr id="58" name="Straight Arrow Connector 25"/>
          <p:cNvCxnSpPr/>
          <p:nvPr/>
        </p:nvCxnSpPr>
        <p:spPr>
          <a:xfrm flipH="1">
            <a:off x="1622160" y="3665160"/>
            <a:ext cx="4636080" cy="1113120"/>
          </a:xfrm>
          <a:prstGeom prst="straightConnector1">
            <a:avLst/>
          </a:prstGeom>
          <a:ln w="76320">
            <a:solidFill>
              <a:srgbClr val="1c1c1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301920" y="217440"/>
            <a:ext cx="5362560" cy="6505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Africa, VHI of current year"/>
          <p:cNvPicPr/>
          <p:nvPr/>
        </p:nvPicPr>
        <p:blipFill>
          <a:blip r:embed="rId2"/>
          <a:stretch/>
        </p:blipFill>
        <p:spPr>
          <a:xfrm>
            <a:off x="3330720" y="217440"/>
            <a:ext cx="5333760" cy="58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0" y="549360"/>
            <a:ext cx="6126120" cy="5943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6066000" y="549360"/>
            <a:ext cx="61261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ttps://www.cpc.ncep.noaa.gov/products/international/africa_rfe/africa_rfe_7day_ea_obs.gif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53341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https://www.cpc.ncep.noaa.gov/products/international/africa_rfe/africa_rfe_7day_ea_anom.gif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53341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3T13:48:04Z</dcterms:created>
  <dc:creator>Steven Fuhrman</dc:creator>
  <dc:description/>
  <dc:language>en-US</dc:language>
  <cp:lastModifiedBy>Admin</cp:lastModifiedBy>
  <dcterms:modified xsi:type="dcterms:W3CDTF">2021-06-22T15:58:18Z</dcterms:modified>
  <cp:revision>315</cp:revision>
  <dc:subject/>
  <dc:title>Africa Hazards Briefing</dc:title>
</cp:coreProperties>
</file>