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7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6DF0-EE97-461C-AD7C-255BAC4F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00ED-926C-4508-9D55-D87CA80D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0203-10EA-4AF8-9FF6-DE2EEFC4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77C0-7A92-4A4F-8F5F-D9F4F4D0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05D7-07CD-4842-B08F-AEAC20F2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F9F-66DF-4508-92B5-D837A44B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A1F-2F26-4E3C-A52A-831C3457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8FA-EC23-4FF2-A1D0-BBB44A08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F51C-68F6-4D0B-A46C-0F9BD10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24A4-014B-4403-A692-4C59BF6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C34-BB58-4729-8698-EF3757FA0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FD46-9E94-4874-9B05-2EFC3212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F027A-6D2D-4DB1-9536-E8995D2E5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70c0"/>
                </a:solidFill>
                <a:latin typeface="Calibri Light"/>
              </a:rPr>
              <a:t>Africa Hazards Briefing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Calibri"/>
              </a:rPr>
              <a:t>22 June 202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Miliaritiana Robj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7f7f"/>
                </a:solidFill>
                <a:latin typeface="Calibri"/>
              </a:rPr>
              <a:t>miliaritiana.robjhon@noaa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8993160" y="0"/>
            <a:ext cx="3198960" cy="3429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"/>
          <p:cNvPicPr/>
          <p:nvPr/>
        </p:nvPicPr>
        <p:blipFill>
          <a:blip r:embed="rId3"/>
          <a:stretch/>
        </p:blipFill>
        <p:spPr>
          <a:xfrm>
            <a:off x="5792760" y="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4"/>
          <a:stretch/>
        </p:blipFill>
        <p:spPr>
          <a:xfrm>
            <a:off x="8993160" y="3429000"/>
            <a:ext cx="3198960" cy="3429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"/>
          <p:cNvPicPr/>
          <p:nvPr/>
        </p:nvPicPr>
        <p:blipFill>
          <a:blip r:embed="rId5"/>
          <a:stretch/>
        </p:blipFill>
        <p:spPr>
          <a:xfrm>
            <a:off x="5792760" y="3429000"/>
            <a:ext cx="3200400" cy="3333600"/>
          </a:xfrm>
          <a:prstGeom prst="rect">
            <a:avLst/>
          </a:prstGeom>
          <a:ln w="0">
            <a:noFill/>
          </a:ln>
        </p:spPr>
      </p:pic>
      <p:cxnSp>
        <p:nvCxnSpPr>
          <p:cNvPr id="74" name="Straight Arrow Connector 2"/>
          <p:cNvCxnSpPr/>
          <p:nvPr/>
        </p:nvCxnSpPr>
        <p:spPr>
          <a:xfrm flipH="1">
            <a:off x="3736080" y="166680"/>
            <a:ext cx="2894760" cy="2132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Straight Arrow Connector 16"/>
          <p:cNvCxnSpPr/>
          <p:nvPr/>
        </p:nvCxnSpPr>
        <p:spPr>
          <a:xfrm flipH="1">
            <a:off x="4912560" y="107640"/>
            <a:ext cx="5072760" cy="28342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Straight Arrow Connector 17"/>
          <p:cNvCxnSpPr/>
          <p:nvPr/>
        </p:nvCxnSpPr>
        <p:spPr>
          <a:xfrm flipH="1">
            <a:off x="3792240" y="3522240"/>
            <a:ext cx="283896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Straight Arrow Connector 18"/>
          <p:cNvCxnSpPr/>
          <p:nvPr/>
        </p:nvCxnSpPr>
        <p:spPr>
          <a:xfrm flipH="1">
            <a:off x="3410640" y="3581280"/>
            <a:ext cx="6409800" cy="673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534000" y="704880"/>
          <a:ext cx="10515600" cy="365040"/>
        </p:xfrm>
        <a:graphic>
          <a:graphicData uri="http://schemas.openxmlformats.org/drawingml/2006/table">
            <a:tbl>
              <a:tblPr/>
              <a:tblGrid>
                <a:gridCol w="10515600"/>
              </a:tblGrid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Rectangle 3"/>
          <p:cNvSpPr/>
          <p:nvPr/>
        </p:nvSpPr>
        <p:spPr>
          <a:xfrm>
            <a:off x="5904000" y="735120"/>
            <a:ext cx="581940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31680" bIns="31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  <a:ea typeface="Arial"/>
              </a:rPr>
              <a:t>Desert Locust situation update </a:t>
            </a: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21 June 20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095880" y="1154160"/>
            <a:ext cx="5695920" cy="40543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"/>
          <p:cNvSpPr/>
          <p:nvPr/>
        </p:nvSpPr>
        <p:spPr>
          <a:xfrm>
            <a:off x="0" y="1382760"/>
            <a:ext cx="6095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 </a:t>
            </a:r>
            <a:r>
              <a:rPr b="1" lang="en-US" sz="1800" spc="-1" strike="noStrike">
                <a:solidFill>
                  <a:srgbClr val="660000"/>
                </a:solidFill>
                <a:latin typeface="Verdana"/>
              </a:rPr>
              <a:t>SOMAL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Aerial and ground operations are making good progress against numerous hopper bands on the coast, escarpment, and plateau in the northwest (Somaliland); consequently, only a few small immature swarms have formed so far. Control operations continue against smaller hopper band infestations in the northeast (Puntland)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• </a:t>
            </a:r>
            <a:r>
              <a:rPr b="1" lang="en-US" sz="1800" spc="-1" strike="noStrike">
                <a:solidFill>
                  <a:srgbClr val="660000"/>
                </a:solidFill>
                <a:latin typeface="Verdana"/>
              </a:rPr>
              <a:t>ETHIOPI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Hopper bands continue to develop in eastern Bale zone of Oromia region and the railway area near Ayasha in western Somali region; no infestations seen by aerial surveys in eastern Somali reg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1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FB865B-63E1-49DE-A238-207D499382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Map&#10;&#10;Description automatically generated"/>
          <p:cNvPicPr/>
          <p:nvPr/>
        </p:nvPicPr>
        <p:blipFill>
          <a:blip r:embed="rId1"/>
          <a:stretch/>
        </p:blipFill>
        <p:spPr>
          <a:xfrm>
            <a:off x="838080" y="0"/>
            <a:ext cx="52992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Map&#10;&#10;Description automatically generated"/>
          <p:cNvPicPr/>
          <p:nvPr/>
        </p:nvPicPr>
        <p:blipFill>
          <a:blip r:embed="rId2"/>
          <a:stretch/>
        </p:blipFill>
        <p:spPr>
          <a:xfrm>
            <a:off x="6589800" y="0"/>
            <a:ext cx="5298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3446640" y="905040"/>
            <a:ext cx="5298840" cy="595296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4307760" y="380880"/>
            <a:ext cx="357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frica Hazards Outl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https://www.cpc.ncep.noaa.gov/products/international/africa_rfe/africa_rfe_7day_wa_obs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7" descr="https://www.cpc.ncep.noaa.gov/products/international/africa_rfe/africa_rfe_7day_wa_anom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095880" y="549360"/>
            <a:ext cx="6096240" cy="5943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0" y="54936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Straight Arrow Connector 3"/>
          <p:cNvCxnSpPr/>
          <p:nvPr/>
        </p:nvCxnSpPr>
        <p:spPr>
          <a:xfrm flipH="1">
            <a:off x="2265120" y="77760"/>
            <a:ext cx="5536080" cy="5238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598320"/>
            <a:ext cx="5478480" cy="5237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8834400" y="0"/>
            <a:ext cx="3357720" cy="357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3"/>
          <a:stretch/>
        </p:blipFill>
        <p:spPr>
          <a:xfrm>
            <a:off x="5478480" y="0"/>
            <a:ext cx="3355920" cy="34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"/>
          <p:cNvPicPr/>
          <p:nvPr/>
        </p:nvPicPr>
        <p:blipFill>
          <a:blip r:embed="rId4"/>
          <a:stretch/>
        </p:blipFill>
        <p:spPr>
          <a:xfrm>
            <a:off x="8834400" y="3571920"/>
            <a:ext cx="3357720" cy="3286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"/>
          <p:cNvPicPr/>
          <p:nvPr/>
        </p:nvPicPr>
        <p:blipFill>
          <a:blip r:embed="rId5"/>
          <a:stretch/>
        </p:blipFill>
        <p:spPr>
          <a:xfrm>
            <a:off x="5478480" y="3571920"/>
            <a:ext cx="3355920" cy="3286080"/>
          </a:xfrm>
          <a:prstGeom prst="rect">
            <a:avLst/>
          </a:prstGeom>
          <a:ln w="0">
            <a:noFill/>
          </a:ln>
        </p:spPr>
      </p:pic>
      <p:cxnSp>
        <p:nvCxnSpPr>
          <p:cNvPr id="55" name="Straight Arrow Connector 2"/>
          <p:cNvCxnSpPr/>
          <p:nvPr/>
        </p:nvCxnSpPr>
        <p:spPr>
          <a:xfrm flipH="1">
            <a:off x="3308040" y="190080"/>
            <a:ext cx="3069360" cy="435852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6" name="Straight Arrow Connector 19"/>
          <p:cNvCxnSpPr/>
          <p:nvPr/>
        </p:nvCxnSpPr>
        <p:spPr>
          <a:xfrm flipH="1">
            <a:off x="2074680" y="77400"/>
            <a:ext cx="7660080" cy="459828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7" name="Straight Arrow Connector 22"/>
          <p:cNvCxnSpPr/>
          <p:nvPr/>
        </p:nvCxnSpPr>
        <p:spPr>
          <a:xfrm flipH="1">
            <a:off x="2917440" y="3665160"/>
            <a:ext cx="6672960" cy="68508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  <p:cxnSp>
        <p:nvCxnSpPr>
          <p:cNvPr id="58" name="Straight Arrow Connector 25"/>
          <p:cNvCxnSpPr/>
          <p:nvPr/>
        </p:nvCxnSpPr>
        <p:spPr>
          <a:xfrm flipH="1">
            <a:off x="1622160" y="3665160"/>
            <a:ext cx="4636080" cy="1113120"/>
          </a:xfrm>
          <a:prstGeom prst="straightConnector1">
            <a:avLst/>
          </a:prstGeom>
          <a:ln w="76320">
            <a:solidFill>
              <a:srgbClr val="1c1c1c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301920" y="217440"/>
            <a:ext cx="5362560" cy="6505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frica, VHI of current year"/>
          <p:cNvPicPr/>
          <p:nvPr/>
        </p:nvPicPr>
        <p:blipFill>
          <a:blip r:embed="rId2"/>
          <a:stretch/>
        </p:blipFill>
        <p:spPr>
          <a:xfrm>
            <a:off x="3330720" y="217440"/>
            <a:ext cx="5333760" cy="58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549360"/>
            <a:ext cx="6126120" cy="5943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"/>
          <p:cNvPicPr/>
          <p:nvPr/>
        </p:nvPicPr>
        <p:blipFill>
          <a:blip r:embed="rId2"/>
          <a:stretch/>
        </p:blipFill>
        <p:spPr>
          <a:xfrm>
            <a:off x="6066000" y="549360"/>
            <a:ext cx="61261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https://www.cpc.ncep.noaa.gov/products/international/africa_rfe/africa_rfe_7day_ea_obs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https://www.cpc.ncep.noaa.gov/products/international/africa_rfe/africa_rfe_7day_ea_anom.gif"/>
          <p:cNvPicPr/>
          <p:nvPr/>
        </p:nvPicPr>
        <p:blipFill>
          <a:blip r:embed="rId1"/>
          <a:stretch/>
        </p:blipFill>
        <p:spPr>
          <a:xfrm>
            <a:off x="0" y="1143000"/>
            <a:ext cx="4572000" cy="4572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3341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1-23T13:48:04Z</dcterms:created>
  <dc:creator>Steven Fuhrman</dc:creator>
  <dc:description/>
  <dc:language>en-US</dc:language>
  <cp:lastModifiedBy>Admin</cp:lastModifiedBy>
  <dcterms:modified xsi:type="dcterms:W3CDTF">2021-06-22T15:58:18Z</dcterms:modified>
  <cp:revision>315</cp:revision>
  <dc:subject/>
  <dc:title>Africa Hazards Briefing</dc:title>
</cp:coreProperties>
</file>